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AF7-940A-461E-98F6-DDB44751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E1F-04F6-4ACF-B9AC-CD1FA2DB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699-60E4-43F3-B88B-E1E5582B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21A-3E73-4528-8BE1-CBF1FB61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F976-DCE2-4C42-877A-8F78D045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2332-7220-420D-8DBA-CDFB6A62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6023-3404-4BDB-8DA8-86D5C48A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9840-CA4B-43D6-9EAF-84ABC292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ED5A-BCEC-456F-840E-567DC96C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F470-5F30-4F3A-949B-6B5216C2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930A-54AA-4763-ABD2-FA5BEF5B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9D0-F39C-4338-AD34-2FB635FF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0E7C-89F3-4273-B31A-461B5DD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766B-C780-464F-B30C-C1D1D0B7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A9C7-B873-4461-8EF9-5DC2E27F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1DD8-9F41-4794-BEAD-0370E693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0496-1D89-4882-880B-59DB80CC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D58-29EF-4506-A899-BF0E121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28C-D428-44B5-9165-44A365BB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909-1AED-4C81-A60D-8E270A25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9A5-DFF0-4F77-9B1E-F82E052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24A-E003-474B-ADCB-A7881175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554-1A4B-4577-91FE-04E82577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214-968E-4F2E-BF58-9F91FA09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BFB6-5CDB-45E5-A0A7-793FA7E4C5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DC36-35C1-464C-8A23-2D41128FF7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133720"/>
            <a:ext cx="7429680" cy="4295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5400" spc="-1" strike="noStrike">
                <a:solidFill>
                  <a:srgbClr val="000099"/>
                </a:solidFill>
                <a:latin typeface="Comic Sans MS"/>
              </a:rPr>
              <a:t>Т</a:t>
            </a:r>
            <a:r>
              <a:rPr b="0" lang="ru-RU" sz="5400" spc="-1" strike="noStrike">
                <a:solidFill>
                  <a:srgbClr val="000099"/>
                </a:solidFill>
                <a:latin typeface="Comic Sans MS"/>
              </a:rPr>
              <a:t>ригонометрические функции</a:t>
            </a:r>
            <a:br>
              <a:rPr sz="54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втор проекта:   Савинов А.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уководитель:  Торопова Е.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1285920"/>
            <a:ext cx="6840720" cy="46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5400" spc="-1" strike="noStrike">
                <a:solidFill>
                  <a:srgbClr val="0070c0"/>
                </a:solidFill>
                <a:latin typeface="Comic Sans MS"/>
              </a:rPr>
              <a:t>Проблемный вопрос: </a:t>
            </a:r>
            <a:br>
              <a:rPr sz="5400"/>
            </a:br>
            <a:br>
              <a:rPr sz="5400"/>
            </a:br>
            <a:r>
              <a:rPr b="0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 правильно строить графики тригонометрических и обратных функций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ыяснить как строить строится график функции С</a:t>
            </a:r>
            <a:r>
              <a:rPr b="0" lang="en-US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s(f(x))=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1000080" y="428760"/>
            <a:ext cx="7572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Ход работ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что собой представляет функц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областью определения и областью зна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пример построения одной из функц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учебник Алгебра 8 класс. Макарычев Ю. 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5000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Y=Cos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x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2090880"/>
            <a:ext cx="621036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13840"/>
            <a:ext cx="687060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Вывод: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Чтобы построить график функции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Y=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С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os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f(x))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2571840"/>
            <a:ext cx="80247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ти область определения Функ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троить 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x)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а промежутк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;П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разить график относительно прямой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ебра в таблицах. 7-11 кл.:Л.И.Звавич, А.Р.Рязановский.-М.:Дрофа 2004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. М. Гельфанд, С.М.Львовский, А. Л. То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Тригонометрия. М.: МЦНМО, 2003. — 200 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2:18:38Z</dcterms:created>
  <dc:creator>илья</dc:creator>
  <dc:description/>
  <dc:language>en-US</dc:language>
  <cp:lastModifiedBy>илья</cp:lastModifiedBy>
  <dcterms:modified xsi:type="dcterms:W3CDTF">2010-05-30T13:36:20Z</dcterms:modified>
  <cp:revision>18</cp:revision>
  <dc:subject/>
  <dc:title>Методы решения тригонометрических уравнений</dc:title>
</cp:coreProperties>
</file>